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7B2-CF13-4754-8C7E-CEBC5BC2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617-A478-4C25-B017-C009F9DF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E0B-2FBF-4A87-9973-F4E3B9DD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2F9-F866-46E5-97BF-04676E90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555-8D8C-4AE9-A7FE-083FDBF5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E72-EC1B-4F26-B3A4-F9B96C90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7A1-F586-4324-BF47-0E5FAA44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A0A-AE25-4DAC-85AE-4DE69FE3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C4F-10D7-43D5-B26D-2667F259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D57-7A89-4A52-8C7F-9ED51E36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1C5-01E3-404C-83C5-6D6DEC04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8C1-2EA1-4259-82BF-C627A119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7F55-DD7E-456A-A3BB-114DCE6F4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3124080"/>
            <a:ext cx="5867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 Java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335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114300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828800"/>
            <a:ext cx="2982960" cy="5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 REST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5335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1430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3623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5257800"/>
            <a:ext cx="76212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4267080"/>
            <a:ext cx="1752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O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36576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609588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o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609588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ow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472428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54864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124080"/>
            <a:ext cx="10666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2R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33520"/>
            <a:ext cx="9144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m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14300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733920"/>
            <a:ext cx="914400" cy="1676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54280" y="-31680"/>
            <a:ext cx="186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OBD 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March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50292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WL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53280" y="4191120"/>
            <a:ext cx="533520" cy="609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r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b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3"/>
            <a:endCxn id="62" idx="1"/>
          </p:cNvCxnSpPr>
          <p:nvPr/>
        </p:nvCxnSpPr>
        <p:spPr>
          <a:xfrm>
            <a:off x="7620120" y="4495680"/>
            <a:ext cx="53352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61" idx="3"/>
            <a:endCxn id="62" idx="2"/>
          </p:cNvCxnSpPr>
          <p:nvPr/>
        </p:nvCxnSpPr>
        <p:spPr>
          <a:xfrm flipV="1">
            <a:off x="8153280" y="4800600"/>
            <a:ext cx="267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546840" y="1828800"/>
            <a:ext cx="10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PARQ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over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9200" y="129528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3505320"/>
            <a:ext cx="1752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33720" y="5638680"/>
            <a:ext cx="76176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5486400"/>
            <a:ext cx="76212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581280"/>
            <a:ext cx="5867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 Java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5335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11430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286000"/>
            <a:ext cx="2982960" cy="5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 REST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5335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114300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28195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5257800"/>
            <a:ext cx="76212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41148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472428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ena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41148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5638680"/>
            <a:ext cx="1447920" cy="9144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riple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51814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724280"/>
            <a:ext cx="1752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O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41148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609588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o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609588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ow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51814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51814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411480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148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24840" y="426708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Q2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3581280"/>
            <a:ext cx="10670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2R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33520"/>
            <a:ext cx="9144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m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1430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4191120"/>
            <a:ext cx="685800" cy="1218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22:45:09Z</dcterms:created>
  <dc:creator>Chris Mungall</dc:creator>
  <dc:description/>
  <dc:language>en-US</dc:language>
  <cp:lastModifiedBy>Chris Mungall</cp:lastModifiedBy>
  <dcterms:modified xsi:type="dcterms:W3CDTF">2008-03-18T21:26:22Z</dcterms:modified>
  <cp:revision>39</cp:revision>
  <dc:subject/>
  <dc:title>The NCBO Open Biomedical Ontology Database</dc:title>
</cp:coreProperties>
</file>